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03D0-1C19-4E5E-B896-647F29AAB8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FB1-5A11-49B1-91D3-B04EE245D6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1B5-5732-498F-95B2-C105526816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6EE-4CE5-49A2-AF9C-ECAEB671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BD7-ACA2-4BCB-B15D-4D23C540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EA5-7F21-4237-AE31-8C909D64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BC0-44FB-4A94-BED2-5D32986B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5FE-59C7-4BF1-9E91-4D4D010A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D92-A258-461F-966F-1BB871DD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33C-06ED-4E82-BA65-BCED0AFB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4D73-E96A-48AC-9F6D-31817365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226E-C78A-4FFF-BFE3-DF6F012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BF97-52B8-4920-B045-55D2E1E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1D94-73C0-4FA1-9686-05767981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8BF-35E3-45EC-912A-DE344C9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2D79-81B5-457E-8EE5-A78B92E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28D3-36A5-4690-A89A-136CB2E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E453-FC10-4DA2-9639-380C9CBC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885-8D85-4796-A95F-4F110541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A363-95D5-4CB7-AC97-4AEBCDFA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D37-424B-4BD2-8E2B-066ADFA8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C0C-1ED9-4B7F-94F9-464CA5C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4F2-AC5A-41BD-BECC-51B931D4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A6E-BBC5-4195-BE37-5A46728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DFA-8C22-453E-B3D7-7FAC79C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B13-5B4F-4FD7-8426-909309F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3F8-5628-43F1-8963-E028312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E71-336F-4359-8847-BB033D8AC4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B15A-368B-4582-A193-2F6C58906D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theway.com.br/musica/imagens/not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acoctelera.com/claudiaysandra/imagen/nota_musical.gi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theway.com.br/musica/imagens/nota.gif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lacoctelera.com/claudiaysandra/imagen/nota_musical.gif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1080" y="2708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555560"/>
            <a:ext cx="8424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iché una sequenza di bit è lineare, si deve definire una convenzion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dina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 pixel della grig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Hp: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ssumiamo che i pixel siano ordinati dal basso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so l'alto e da sinistra verso des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38600" y="3292560"/>
            <a:ext cx="3093840" cy="2152800"/>
            <a:chOff x="4638600" y="3292560"/>
            <a:chExt cx="3093840" cy="2152800"/>
          </a:xfrm>
        </p:grpSpPr>
        <p:sp>
          <p:nvSpPr>
            <p:cNvPr id="142" name=""/>
            <p:cNvSpPr/>
            <p:nvPr/>
          </p:nvSpPr>
          <p:spPr>
            <a:xfrm>
              <a:off x="4638600" y="3296520"/>
              <a:ext cx="3022560" cy="196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76040" y="3792240"/>
              <a:ext cx="294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76040" y="4309200"/>
              <a:ext cx="29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4810320"/>
              <a:ext cx="29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2120" y="3332160"/>
              <a:ext cx="0" cy="19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1760" y="3349080"/>
              <a:ext cx="0" cy="18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4840" y="333216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17320" y="3332160"/>
              <a:ext cx="0" cy="19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51840" y="334908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82800" y="333216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699800" y="3292560"/>
              <a:ext cx="2952360" cy="2008440"/>
              <a:chOff x="4699800" y="3292560"/>
              <a:chExt cx="2952360" cy="2008440"/>
            </a:xfrm>
          </p:grpSpPr>
          <p:sp>
            <p:nvSpPr>
              <p:cNvPr id="153" name=""/>
              <p:cNvSpPr/>
              <p:nvPr/>
            </p:nvSpPr>
            <p:spPr>
              <a:xfrm>
                <a:off x="514872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9836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4872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1348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3180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8108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77520" y="3292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9980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4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9836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980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9836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94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8428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03320" y="48463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192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9904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0332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3108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6488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9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8392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1844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88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8392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452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3432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42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12480" y="3524400"/>
              <a:ext cx="2919960" cy="1920960"/>
              <a:chOff x="4812480" y="3524400"/>
              <a:chExt cx="2919960" cy="192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883400" y="499104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448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6720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300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824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5312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72520" y="500832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83400" y="454140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4480" y="454140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9592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1280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4732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004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0160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1248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6176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9592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1280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47320" y="402588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8004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40160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1248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6176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9592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280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4732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8004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0160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047600" y="3260880"/>
            <a:ext cx="3110040" cy="2011320"/>
            <a:chOff x="1047600" y="3260880"/>
            <a:chExt cx="3110040" cy="2011320"/>
          </a:xfrm>
        </p:grpSpPr>
        <p:grpSp>
          <p:nvGrpSpPr>
            <p:cNvPr id="211" name=""/>
            <p:cNvGrpSpPr/>
            <p:nvPr/>
          </p:nvGrpSpPr>
          <p:grpSpPr>
            <a:xfrm>
              <a:off x="1047600" y="3260880"/>
              <a:ext cx="3110040" cy="2011320"/>
              <a:chOff x="1047600" y="3260880"/>
              <a:chExt cx="3110040" cy="2011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056600" y="3272400"/>
                <a:ext cx="3093120" cy="1989720"/>
              </a:xfrm>
              <a:custGeom>
                <a:avLst/>
                <a:gdLst/>
                <a:ahLst/>
                <a:rect l="l" t="t" r="r" b="b"/>
                <a:pathLst>
                  <a:path w="2064" h="1398">
                    <a:moveTo>
                      <a:pt x="0" y="0"/>
                    </a:moveTo>
                    <a:lnTo>
                      <a:pt x="2063" y="0"/>
                    </a:lnTo>
                    <a:lnTo>
                      <a:pt x="2063" y="1397"/>
                    </a:lnTo>
                    <a:lnTo>
                      <a:pt x="0" y="13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47600" y="3260880"/>
                <a:ext cx="3110040" cy="201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32360" y="3376440"/>
                <a:ext cx="2172960" cy="1238040"/>
              </a:xfrm>
              <a:custGeom>
                <a:avLst/>
                <a:gdLst/>
                <a:ahLst/>
                <a:rect l="l" t="t" r="r" b="b"/>
                <a:pathLst>
                  <a:path w="1450" h="870">
                    <a:moveTo>
                      <a:pt x="243" y="0"/>
                    </a:moveTo>
                    <a:lnTo>
                      <a:pt x="0" y="869"/>
                    </a:lnTo>
                    <a:lnTo>
                      <a:pt x="1449" y="869"/>
                    </a:lnTo>
                    <a:lnTo>
                      <a:pt x="24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299240" y="3430080"/>
                <a:ext cx="444960" cy="116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84560" y="4635720"/>
                <a:ext cx="20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661760" y="3341520"/>
                <a:ext cx="1900440" cy="133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0240" y="3779280"/>
                <a:ext cx="298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0240" y="4302720"/>
                <a:ext cx="298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3920" y="4811040"/>
                <a:ext cx="296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1632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7640" y="3341880"/>
                <a:ext cx="0" cy="18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532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2028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3428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7924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V="1">
              <a:off x="1398240" y="4564800"/>
              <a:ext cx="2018880" cy="11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24000" y="5157720"/>
            <a:ext cx="86868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appresentazione della figura è data dalla stringa binar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0000000 0111100 0110000 0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difica di un’immagine B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362320"/>
            <a:ext cx="42670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895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429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4038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2743200"/>
            <a:ext cx="2210040" cy="1752480"/>
          </a:xfrm>
          <a:prstGeom prst="flowChartExtra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495680" y="441972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19600" y="57150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xel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25640" y="30481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0 1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1 1 1 1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0 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65400" y="5334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codif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286000"/>
            <a:ext cx="42670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3352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962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4572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666880"/>
            <a:ext cx="2210040" cy="17528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0 1 0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1 1 1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1 1 1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1 1 1 1 1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0 0 0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703440" y="407196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2286000"/>
            <a:ext cx="6858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2819520"/>
            <a:ext cx="533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2819520"/>
            <a:ext cx="685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3962520"/>
            <a:ext cx="30481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5600" y="53672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7640" y="1628280"/>
            <a:ext cx="8675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empre il contorno della figura coincide con le linee della grig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lla codifica si ottiene un'approssimazione della figura originari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ppresentazione sarà più fedele all'aumentare del numero di pix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ia al diminuire delle dimensioni dei quadratini della griglia in cui è suddivisa l'immagin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14600" y="3645000"/>
            <a:ext cx="4379760" cy="2469960"/>
            <a:chOff x="2514600" y="3645000"/>
            <a:chExt cx="4379760" cy="2469960"/>
          </a:xfrm>
        </p:grpSpPr>
        <p:sp>
          <p:nvSpPr>
            <p:cNvPr id="272" name=""/>
            <p:cNvSpPr/>
            <p:nvPr/>
          </p:nvSpPr>
          <p:spPr>
            <a:xfrm>
              <a:off x="2514600" y="3645000"/>
              <a:ext cx="4379760" cy="246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85880" y="4259160"/>
              <a:ext cx="421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5880" y="490860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08200" y="5535720"/>
              <a:ext cx="419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10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284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290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86560" y="371628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2800" y="3738600"/>
              <a:ext cx="0" cy="22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56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2744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76520" y="3738600"/>
              <a:ext cx="0" cy="22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880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2596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89680" y="373860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9592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3220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85880" y="395748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880" y="458460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08200" y="5211720"/>
              <a:ext cx="421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08200" y="5838840"/>
              <a:ext cx="419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6920" y="3957480"/>
              <a:ext cx="547920" cy="1257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6000" y="429408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11440" y="4272120"/>
              <a:ext cx="28584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6000" y="4618080"/>
              <a:ext cx="2872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1440" y="3970440"/>
              <a:ext cx="28584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05320" y="4294080"/>
              <a:ext cx="914400" cy="865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z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2600" y="4262400"/>
              <a:ext cx="654120" cy="317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2400" y="4902120"/>
              <a:ext cx="325440" cy="304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6040" y="4921200"/>
              <a:ext cx="2854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67120" y="4597560"/>
              <a:ext cx="28764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1840" y="4921200"/>
              <a:ext cx="566640" cy="284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21160" y="4597560"/>
              <a:ext cx="615960" cy="61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4920" y="4618080"/>
              <a:ext cx="2854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600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11440" y="4898880"/>
              <a:ext cx="285840" cy="287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1680" y="4921200"/>
              <a:ext cx="28764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8560" y="4597560"/>
              <a:ext cx="28728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35440" y="4898880"/>
              <a:ext cx="287280" cy="287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4516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89480" y="4618080"/>
              <a:ext cx="2872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856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2680" y="6505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320" y="1738080"/>
            <a:ext cx="899136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Quind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le immagini sono rappresentate con un certo livello di approssimazione, o meglio, di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isoluzion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ossia il numero di pixel usati per riprodurre l’immagi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isoluzioni tipi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40 x 480 pixel; 800 x 600 pix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24 x 768 pixel; 1280 x 1024 pix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mmagini in toni di grig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844640"/>
            <a:ext cx="8713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immagini in bianco e nero hanno delle sfumature, o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ivelli di intensità di gr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codificare immagini con sfumatu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fissa un insieme di livelli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n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di grigio, cui si assegna convenzionalmente una rappresentazione bin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ogni pixel si stabilisce il livello medio di grigio e si memorizza la codifica corrispondente a tale liv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memorizzare un pixel non è più sufficiente 1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si possono rappresenta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=16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lli di gr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ne possiamo distingue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8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=25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ne possiamo distingue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Immagini a colo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903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nalogamente possono essere codificate le immagini a color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bisogna definire un insieme di sfumature di colore differ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 rappresentarle mediante una opportuna sequenza di bi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ella codific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RGB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i utilizzano tre colo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rosso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Red), </a:t>
            </a:r>
            <a:r>
              <a:rPr b="1" lang="it-IT" sz="1800" spc="-1" strike="noStrike">
                <a:solidFill>
                  <a:srgbClr val="009900"/>
                </a:solidFill>
                <a:latin typeface="Verdana"/>
              </a:rPr>
              <a:t>verd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Green) e </a:t>
            </a:r>
            <a:r>
              <a:rPr b="1" lang="it-IT" sz="1800" spc="-1" strike="noStrike">
                <a:solidFill>
                  <a:srgbClr val="000099"/>
                </a:solidFill>
                <a:latin typeface="Verdana"/>
              </a:rPr>
              <a:t>blu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Bl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ogni colore si associa un certo numer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 sfumature codificate su N bi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ossibili sfumatu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 2 bit per colore si ottengono 4 sfumature per col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 8 bit per colore si ottengono 256 sfumature per colore e 256</a:t>
            </a:r>
            <a:r>
              <a:rPr b="0" lang="it-IT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6 milioni) possibili col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27640" y="3079800"/>
            <a:ext cx="2232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mmagini a colo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qualità dell'immagine dipen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l numero di punti in cui viene suddivisa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isoluzio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i toni di colore permessi dalla codific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560" y="189828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La rappresentazione di un’immagine mediante la codifica a pixel viene chiamata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bitm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l numero di byte richiesti per memorizzare un bitmap dipende dalla risoluzione e dal numero di colo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e la risoluzione è 640x480 con 256 colori occorrono 2.457.600 bit = 300 K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560" y="1898280"/>
            <a:ext cx="8893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formati bitmap più conosciuti son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BITMAP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bmp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gif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jpg)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TIFF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(.tiff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PNG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png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tali formati si utilizzano metodi di </a:t>
            </a: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compressione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lo spazio di memorizzazi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ree dello stesso colore si rappresentano in modo “abbreviato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’ in genere possibile passare da un formato ad un al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858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82556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ILE: sequenza di byte conosciuta nel computer con un certo nom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IPI DI FI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le di dati (es: immagini o su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rogrammi (es:  word o explor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le di testo (cioè caratteri asci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TENSIONI DI UN FILE (window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gif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ex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doc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73440" y="519120"/>
            <a:ext cx="932508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vettoriale delle immag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" y="175392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tilizza quando le immagini da memorizzare hanno caratteristiche geometriche ben defin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disegno da memorizzare può essere facilmen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composto in elementi bas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 una linea o un arco di circonfere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memorizzazione dell'intera immagine avviene tramite la codifica di ogni singola par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73440" y="519120"/>
            <a:ext cx="932508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vettoriale delle immag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8640" y="1628640"/>
            <a:ext cx="927900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chiede poco spa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definire un segmento basteranno le coordinate dei due estremi (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Linea dal punto &lt;10;12&gt; a &lt;20; 30&gt;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formato più diffuso è il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ostScrip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s, eps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usato anche per la stampa dei te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tri formati: wmf, cdr (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CorelDraw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film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54072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mmagini in movimento sono memorizzate come sequenze di fotogram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 sfrutta la limitatezza della capacità percettiv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'occhio um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equenza continua di immagini viene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discretizz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ttenendo una serie di immagini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che varian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locemente, ma a intervalli stabili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genere si tratta di sequenze compresse di immagi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d esempio si possono registrare solo le variazioni tra u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togramma e l’al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17222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film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9930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vari formati (comprendente il sonor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quick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possibile ritoccare i singoli fotogram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 dei su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i effettuano dei campionamenti su dati analogi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onda sonora viene misurata (campionata) ad intervalli 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i rappresentano i valori campionati con valori digita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La frequenza del campionamento determina la fedeltà della riproduzione del suo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inore è l’intervallo di campionamento e maggiore è la qualità del suo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D musicali: 44000 campionamenti al secondo, 16 bit per camp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692280"/>
            <a:ext cx="752400" cy="81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260280"/>
            <a:ext cx="800280" cy="819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89000"/>
            <a:ext cx="752400" cy="819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12000" y="692280"/>
            <a:ext cx="800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su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643040"/>
            <a:ext cx="86104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cuni form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struttura dei 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’ meglio vedere un file come un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z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E’ il programma che usa il file a gestirne il contenuto in modo corret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 esempio, nei file d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quando viene incontrato il byte = &lt;new line&gt; si devono visualizzare i caratteri successivi nella riga sottostan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235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2058840"/>
            <a:ext cx="8820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’immagine è un insieme continuo di inform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ferenza delle cifre e dei caratteri alfanumerici, per le immagini non esiste un'unità minima di riferi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: render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gital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a informazione prettament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alo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770120"/>
            <a:ext cx="88200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istono numerose tecniche per la memorizzazione digitale e l'elaborazione di un'immag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prevede la scomposizione dell'immagine in u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rigli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tanti elementi 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un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che sono l'unità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inim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memorizzazion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econda strada prevede la presenza di strutture elementari di natura più complessa, quali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ine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irconferen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898640"/>
            <a:ext cx="9144000" cy="48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videre l’immagine in una griglia a righe orizzontali e vertic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gni quadratino della griglia è un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ixe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icture elemen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dificare ogni pixel 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0 se il pixel è bian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se il pixel è n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venire un ordinamento per i bit usati nella codif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630440"/>
            <a:ext cx="8421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iamo un'immagine in bianco e nero, senza ombreggiature o livelli di chiaroscu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ddividiamo l’immagine mediante una griglia formata da righe orizzontali e verticali a distanza costa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5300640"/>
            <a:ext cx="2576520" cy="1458720"/>
            <a:chOff x="3059280" y="5300640"/>
            <a:chExt cx="2576520" cy="1458720"/>
          </a:xfrm>
        </p:grpSpPr>
        <p:grpSp>
          <p:nvGrpSpPr>
            <p:cNvPr id="110" name=""/>
            <p:cNvGrpSpPr/>
            <p:nvPr/>
          </p:nvGrpSpPr>
          <p:grpSpPr>
            <a:xfrm>
              <a:off x="3059280" y="5300640"/>
              <a:ext cx="2576520" cy="1458720"/>
              <a:chOff x="3059280" y="5300640"/>
              <a:chExt cx="2576520" cy="14587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5400" y="5306760"/>
                <a:ext cx="2565360" cy="1447920"/>
              </a:xfrm>
              <a:custGeom>
                <a:avLst/>
                <a:gdLst/>
                <a:ahLst/>
                <a:rect l="l" t="t" r="r" b="b"/>
                <a:pathLst>
                  <a:path w="1616" h="912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911"/>
                    </a:lnTo>
                    <a:lnTo>
                      <a:pt x="0" y="9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59280" y="5300640"/>
                <a:ext cx="2576520" cy="1458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4000" y="5383080"/>
                <a:ext cx="1803600" cy="901800"/>
              </a:xfrm>
              <a:custGeom>
                <a:avLst/>
                <a:gdLst/>
                <a:ahLst/>
                <a:rect l="l" t="t" r="r" b="b"/>
                <a:pathLst>
                  <a:path w="1136" h="568">
                    <a:moveTo>
                      <a:pt x="191" y="0"/>
                    </a:moveTo>
                    <a:lnTo>
                      <a:pt x="0" y="567"/>
                    </a:lnTo>
                    <a:lnTo>
                      <a:pt x="1135" y="567"/>
                    </a:lnTo>
                    <a:lnTo>
                      <a:pt x="191" y="0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263400" y="5429160"/>
                <a:ext cx="373320" cy="8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40080" y="6296040"/>
                <a:ext cx="173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3565080" y="5351040"/>
                <a:ext cx="1576440" cy="9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1480" y="5675040"/>
                <a:ext cx="24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1480" y="6054480"/>
                <a:ext cx="24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4080" y="6422760"/>
                <a:ext cx="24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4628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61040" y="5365440"/>
                <a:ext cx="0" cy="13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2752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580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3708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536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3328920" y="6249960"/>
              <a:ext cx="17319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987640" y="2421000"/>
            <a:ext cx="2576520" cy="1460520"/>
            <a:chOff x="2987640" y="2421000"/>
            <a:chExt cx="2576520" cy="1460520"/>
          </a:xfrm>
        </p:grpSpPr>
        <p:grpSp>
          <p:nvGrpSpPr>
            <p:cNvPr id="128" name=""/>
            <p:cNvGrpSpPr/>
            <p:nvPr/>
          </p:nvGrpSpPr>
          <p:grpSpPr>
            <a:xfrm>
              <a:off x="2987640" y="2421000"/>
              <a:ext cx="2576520" cy="1460520"/>
              <a:chOff x="2987640" y="2421000"/>
              <a:chExt cx="2576520" cy="1460520"/>
            </a:xfrm>
          </p:grpSpPr>
          <p:sp>
            <p:nvSpPr>
              <p:cNvPr id="129" name=""/>
              <p:cNvSpPr/>
              <p:nvPr/>
            </p:nvSpPr>
            <p:spPr>
              <a:xfrm>
                <a:off x="3235320" y="2655720"/>
                <a:ext cx="1792440" cy="752760"/>
              </a:xfrm>
              <a:custGeom>
                <a:avLst/>
                <a:gdLst/>
                <a:ahLst/>
                <a:rect l="l" t="t" r="r" b="b"/>
                <a:pathLst>
                  <a:path w="1129" h="474">
                    <a:moveTo>
                      <a:pt x="276" y="0"/>
                    </a:moveTo>
                    <a:lnTo>
                      <a:pt x="0" y="473"/>
                    </a:lnTo>
                    <a:lnTo>
                      <a:pt x="1128" y="473"/>
                    </a:lnTo>
                    <a:lnTo>
                      <a:pt x="27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35320" y="2655720"/>
                <a:ext cx="1808280" cy="768600"/>
              </a:xfrm>
              <a:custGeom>
                <a:avLst/>
                <a:gdLst/>
                <a:ahLst/>
                <a:rect l="l" t="t" r="r" b="b"/>
                <a:pathLst>
                  <a:path w="1139" h="484">
                    <a:moveTo>
                      <a:pt x="278" y="0"/>
                    </a:moveTo>
                    <a:lnTo>
                      <a:pt x="0" y="483"/>
                    </a:lnTo>
                    <a:lnTo>
                      <a:pt x="1138" y="483"/>
                    </a:lnTo>
                    <a:lnTo>
                      <a:pt x="27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2987640" y="2421000"/>
                <a:ext cx="2576520" cy="1460520"/>
                <a:chOff x="2987640" y="2421000"/>
                <a:chExt cx="2576520" cy="1460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87640" y="2421000"/>
                  <a:ext cx="2576520" cy="1460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235320" y="2503440"/>
                  <a:ext cx="1792440" cy="905040"/>
                </a:xfrm>
                <a:custGeom>
                  <a:avLst/>
                  <a:gdLst/>
                  <a:ahLst/>
                  <a:rect l="l" t="t" r="r" b="b"/>
                  <a:pathLst>
                    <a:path w="1129" h="570">
                      <a:moveTo>
                        <a:pt x="188" y="0"/>
                      </a:moveTo>
                      <a:lnTo>
                        <a:pt x="0" y="569"/>
                      </a:lnTo>
                      <a:lnTo>
                        <a:pt x="1128" y="569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235320" y="2503440"/>
                  <a:ext cx="1808280" cy="920880"/>
                </a:xfrm>
                <a:custGeom>
                  <a:avLst/>
                  <a:gdLst/>
                  <a:ahLst/>
                  <a:rect l="l" t="t" r="r" b="b"/>
                  <a:pathLst>
                    <a:path w="1139" h="580">
                      <a:moveTo>
                        <a:pt x="190" y="0"/>
                      </a:moveTo>
                      <a:lnTo>
                        <a:pt x="0" y="579"/>
                      </a:lnTo>
                      <a:lnTo>
                        <a:pt x="1138" y="579"/>
                      </a:lnTo>
                      <a:lnTo>
                        <a:pt x="19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3318120" y="3408480"/>
                <a:ext cx="164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318120" y="3406680"/>
              <a:ext cx="16621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77120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gni quadratino derivante da tale suddivisione prende il nome di </a:t>
            </a:r>
            <a:r>
              <a:rPr b="1" lang="it-IT" sz="2600" spc="-1" strike="noStrike">
                <a:solidFill>
                  <a:srgbClr val="ff3300"/>
                </a:solidFill>
                <a:latin typeface="Verdana"/>
              </a:rPr>
              <a:t>pixel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picture element) e può essere codificato in binario secondo la seguente convenzion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l simbolo “</a:t>
            </a:r>
            <a:r>
              <a:rPr b="1" lang="it-IT" sz="2300" spc="-1" strike="noStrike">
                <a:solidFill>
                  <a:srgbClr val="ff3300"/>
                </a:solidFill>
                <a:latin typeface="Verdana"/>
              </a:rPr>
              <a:t>0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” viene utilizzato per la codifica di un pixel corrispondente ad un quadratino bianco (in cui il bianco è predominant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l simbolo “</a:t>
            </a:r>
            <a:r>
              <a:rPr b="1" lang="it-IT" sz="23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” viene utilizzato per la codifica di un pixel corrispondente ad un quadratino nero (in cui il nero è predominant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5:33:47Z</dcterms:modified>
  <cp:revision>65</cp:revision>
  <dc:subject/>
  <dc:title>Diapositiva 1</dc:title>
</cp:coreProperties>
</file>